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8E01-1D82-498F-AA8A-FC75571C0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03B-2D9E-4D0D-8BEE-739E8010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19EB-2340-40CC-88EC-ECF406219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0677-4F09-45DC-9B5B-7F68201E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8471-D6F7-4E72-90D6-C9663DED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E74-F58C-4099-8B4C-2672E0C2B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DE3-9C66-43F8-A950-94538C74E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89E2-ED7E-4467-B526-CBC2F9010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3214-1980-41EE-AE36-8093DE1B4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4E96-3360-4205-BC2B-3BA89344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54E4-6B33-47D7-82A0-DF35844C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B6AC-CE6C-48A8-8E9F-212AFDF7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6122-D82C-44D6-B12E-AD77A6AFE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mem720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655344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conn720" descr=""/>
          <p:cNvPicPr/>
          <p:nvPr/>
        </p:nvPicPr>
        <p:blipFill>
          <a:blip r:embed="rId1"/>
          <a:stretch/>
        </p:blipFill>
        <p:spPr>
          <a:xfrm>
            <a:off x="2057400" y="0"/>
            <a:ext cx="26416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3T00:27:21Z</dcterms:created>
  <dc:creator>geoff lyon</dc:creator>
  <dc:description/>
  <dc:language>en-US</dc:language>
  <cp:lastModifiedBy>geoff lyon</cp:lastModifiedBy>
  <dcterms:modified xsi:type="dcterms:W3CDTF">2001-10-13T00:27:54Z</dcterms:modified>
  <cp:revision>1</cp:revision>
  <dc:subject/>
  <dc:title>PowerPoint Presentation</dc:title>
</cp:coreProperties>
</file>