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9043-D367-42C7-A124-6CC7915B5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9572-086D-42B0-A565-2AD315574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EC40-3A64-4BD3-8607-B04B84C83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1E48-1555-4E62-AD06-192E3B512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72F1-6382-42D8-A324-0CB546F5E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F116-3FA0-4B53-97D3-DD39B039C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E599-FB35-4F79-8406-FE85F13C4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B20C-008A-49CD-8871-07E06A9B3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998F-CF70-4E6F-A8AE-958F9A820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FC6E-3F41-4D78-A99B-563651A94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495E-A5DB-4D34-976D-76725274F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51FD-728A-4532-A629-3FADA6E98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45E1F-8A86-476F-A689-C34467EDE3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87640" y="1001880"/>
            <a:ext cx="7621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39920" y="107784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11320" y="4278240"/>
            <a:ext cx="76212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987640" y="4354560"/>
            <a:ext cx="76212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n-US" sz="1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311120" y="2982960"/>
            <a:ext cx="7621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11120" y="3059280"/>
            <a:ext cx="76212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n-US" sz="1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740120" y="4049640"/>
            <a:ext cx="76212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740120" y="412596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HOTH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73840" y="1077840"/>
            <a:ext cx="76212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026120" y="115416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H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568920" y="2144880"/>
            <a:ext cx="6098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92960" y="214488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HODH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149560" y="4506840"/>
            <a:ext cx="7617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692360" y="33634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1692360" y="1535040"/>
            <a:ext cx="0" cy="1447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225520" y="115416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673440" y="4354560"/>
            <a:ext cx="1066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39920" y="1382760"/>
            <a:ext cx="0" cy="2895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063960" y="1382400"/>
            <a:ext cx="0" cy="2895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97120" y="1382760"/>
            <a:ext cx="0" cy="2895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521160" y="1382400"/>
            <a:ext cx="0" cy="2895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73440" y="4506840"/>
            <a:ext cx="3352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5197320" y="1611000"/>
            <a:ext cx="0" cy="2438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50160" y="145908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331040" y="1459080"/>
            <a:ext cx="0" cy="2590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6569640" y="3591720"/>
            <a:ext cx="76104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5349960" y="1611000"/>
            <a:ext cx="0" cy="2438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49760" y="1306440"/>
            <a:ext cx="9144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207320" y="1306440"/>
            <a:ext cx="761040" cy="76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968720" y="1687680"/>
            <a:ext cx="0" cy="23619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16200000">
            <a:off x="1844280" y="1002600"/>
            <a:ext cx="762120" cy="1065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771" y="49"/>
                </a:moveTo>
                <a:arcTo wR="10800" hR="10800" stAng="-5728146" swAng="5728146"/>
                <a:lnTo>
                  <a:pt x="10800" y="10800"/>
                </a:lnTo>
                <a:close/>
              </a:path>
              <a:path fill="none" w="21600" h="21600">
                <a:moveTo>
                  <a:pt x="9771" y="49"/>
                </a:moveTo>
                <a:arcTo wR="10800" hR="10800" stAng="-5728146" swAng="5728146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15480" y="1154160"/>
            <a:ext cx="834120" cy="107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771" y="49"/>
                </a:moveTo>
                <a:arcTo wR="10800" hR="10800" stAng="-5728146" swAng="5728146"/>
                <a:lnTo>
                  <a:pt x="10800" y="10800"/>
                </a:lnTo>
                <a:close/>
              </a:path>
              <a:path fill="none" w="21600" h="21600">
                <a:moveTo>
                  <a:pt x="9771" y="49"/>
                </a:moveTo>
                <a:arcTo wR="10800" hR="10800" stAng="-5728146" swAng="5728146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3749400" y="1230480"/>
            <a:ext cx="1066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3749400" y="1154160"/>
            <a:ext cx="1143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376680" y="614520"/>
            <a:ext cx="762120" cy="926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771" y="49"/>
                </a:moveTo>
                <a:arcTo wR="10800" hR="10800" stAng="-5728146" swAng="5728146"/>
                <a:lnTo>
                  <a:pt x="10800" y="10800"/>
                </a:lnTo>
                <a:close/>
              </a:path>
              <a:path fill="none" w="21600" h="21600">
                <a:moveTo>
                  <a:pt x="9771" y="49"/>
                </a:moveTo>
                <a:arcTo wR="10800" hR="10800" stAng="-5728146" swAng="5728146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16200000">
            <a:off x="3604320" y="469080"/>
            <a:ext cx="622800" cy="926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771" y="49"/>
                </a:moveTo>
                <a:arcTo wR="10800" hR="10800" stAng="-5728146" swAng="6142961"/>
                <a:lnTo>
                  <a:pt x="10800" y="10800"/>
                </a:lnTo>
                <a:close/>
              </a:path>
              <a:path fill="none" w="21600" h="21600">
                <a:moveTo>
                  <a:pt x="9771" y="49"/>
                </a:moveTo>
                <a:arcTo wR="10800" hR="10800" stAng="-5728146" swAng="6142961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902040" y="620640"/>
            <a:ext cx="2819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444840" y="92556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02160" y="1230480"/>
            <a:ext cx="694800" cy="926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771" y="49"/>
                </a:moveTo>
                <a:arcTo wR="10800" hR="10800" stAng="-5728146" swAng="5728146"/>
                <a:lnTo>
                  <a:pt x="10800" y="10800"/>
                </a:lnTo>
                <a:close/>
              </a:path>
              <a:path fill="none" w="21600" h="21600">
                <a:moveTo>
                  <a:pt x="9771" y="49"/>
                </a:moveTo>
                <a:arcTo wR="10800" hR="10800" stAng="-5728146" swAng="5728146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1692360" y="3898080"/>
            <a:ext cx="973080" cy="608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771" y="49"/>
                </a:moveTo>
                <a:arcTo wR="10800" hR="10800" stAng="-5728146" swAng="5728146"/>
                <a:lnTo>
                  <a:pt x="10800" y="10800"/>
                </a:lnTo>
                <a:close/>
              </a:path>
              <a:path fill="none" w="21600" h="21600">
                <a:moveTo>
                  <a:pt x="9771" y="49"/>
                </a:moveTo>
                <a:arcTo wR="10800" hR="10800" stAng="-5728146" swAng="5728146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568920" y="123048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654520" y="3821040"/>
            <a:ext cx="53352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273640" y="4964040"/>
            <a:ext cx="60948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654520" y="3135240"/>
            <a:ext cx="53352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654520" y="2678040"/>
            <a:ext cx="53352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25520" y="2373480"/>
            <a:ext cx="53352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25520" y="235728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C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654520" y="382104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654520" y="313524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G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654520" y="267804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IC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654520" y="116856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CA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07400" y="2527200"/>
            <a:ext cx="556200" cy="491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769" y="49"/>
                </a:moveTo>
                <a:arcTo wR="10800" hR="10800" stAng="-5728816" swAng="6557521"/>
                <a:lnTo>
                  <a:pt x="10800" y="10800"/>
                </a:lnTo>
                <a:close/>
              </a:path>
              <a:path fill="none" w="21600" h="21600">
                <a:moveTo>
                  <a:pt x="9769" y="49"/>
                </a:moveTo>
                <a:arcTo wR="10800" hR="10800" stAng="-5728816" swAng="6557521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44760" y="2449440"/>
            <a:ext cx="694800" cy="491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769" y="49"/>
                </a:moveTo>
                <a:arcTo wR="10800" hR="10800" stAng="-5728816" swAng="6557521"/>
                <a:lnTo>
                  <a:pt x="10800" y="10800"/>
                </a:lnTo>
                <a:close/>
              </a:path>
              <a:path fill="none" w="21600" h="21600">
                <a:moveTo>
                  <a:pt x="9769" y="49"/>
                </a:moveTo>
                <a:arcTo wR="10800" hR="10800" stAng="-5728816" swAng="6557521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2759040" y="2525760"/>
            <a:ext cx="763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883120" y="29062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16200000">
            <a:off x="6053400" y="1517400"/>
            <a:ext cx="990000" cy="416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" y="10624"/>
                </a:moveTo>
                <a:arcTo wR="10800" hR="10800" stAng="-10743854" swAng="11079964"/>
                <a:lnTo>
                  <a:pt x="10800" y="10800"/>
                </a:lnTo>
                <a:close/>
              </a:path>
              <a:path fill="none" w="21600" h="21600">
                <a:moveTo>
                  <a:pt x="1" y="10624"/>
                </a:moveTo>
                <a:arcTo wR="10800" hR="10800" stAng="-10743854" swAng="11079964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rot="16200000">
            <a:off x="4946040" y="1710720"/>
            <a:ext cx="1431720" cy="623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" y="10624"/>
                </a:moveTo>
                <a:arcTo wR="10800" hR="10800" stAng="-10743854" swAng="11079964"/>
                <a:lnTo>
                  <a:pt x="10800" y="10800"/>
                </a:lnTo>
                <a:close/>
              </a:path>
              <a:path fill="none" w="21600" h="21600">
                <a:moveTo>
                  <a:pt x="1" y="10624"/>
                </a:moveTo>
                <a:arcTo wR="10800" hR="10800" stAng="-10743854" swAng="11079964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rot="5400000">
            <a:off x="5515200" y="1852920"/>
            <a:ext cx="1372680" cy="27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" y="11347"/>
                </a:moveTo>
                <a:arcTo wR="10800" hR="10800" stAng="10625657" swAng="11310452"/>
                <a:lnTo>
                  <a:pt x="10800" y="10800"/>
                </a:lnTo>
                <a:close/>
              </a:path>
              <a:path fill="none" w="21600" h="21600">
                <a:moveTo>
                  <a:pt x="14" y="11347"/>
                </a:moveTo>
                <a:arcTo wR="10800" hR="10800" stAng="10625657" swAng="11310452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54520" y="1306440"/>
            <a:ext cx="763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6111720" y="1306440"/>
            <a:ext cx="763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273640" y="496404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UM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rot="21269400">
            <a:off x="5522400" y="4506120"/>
            <a:ext cx="973800" cy="902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4" y="10079"/>
                </a:moveTo>
                <a:arcTo wR="10800" hR="10800" stAng="-10570300" swAng="10906409"/>
                <a:lnTo>
                  <a:pt x="10800" y="10800"/>
                </a:lnTo>
                <a:close/>
              </a:path>
              <a:path fill="none" w="21600" h="21600">
                <a:moveTo>
                  <a:pt x="24" y="10079"/>
                </a:moveTo>
                <a:arcTo wR="10800" hR="10800" stAng="-10570300" swAng="10906409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492960" y="488808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264360" y="504036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TM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rot="10800000">
            <a:off x="5273640" y="-213480"/>
            <a:ext cx="925200" cy="835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4" y="11526"/>
                </a:moveTo>
                <a:arcTo wR="10800" hR="10800" stAng="10568631" swAng="11217090"/>
                <a:lnTo>
                  <a:pt x="10800" y="10800"/>
                </a:lnTo>
                <a:close/>
              </a:path>
              <a:path fill="none" w="21600" h="21600">
                <a:moveTo>
                  <a:pt x="24" y="11526"/>
                </a:moveTo>
                <a:arcTo wR="10800" hR="10800" stAng="10568631" swAng="11217090"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16200000">
            <a:off x="5232960" y="3177360"/>
            <a:ext cx="761760" cy="833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9" y="11932"/>
                </a:moveTo>
                <a:arcTo wR="10800" hR="10800" stAng="10439138" swAng="11496971"/>
                <a:lnTo>
                  <a:pt x="10800" y="10800"/>
                </a:lnTo>
                <a:close/>
              </a:path>
              <a:path fill="none" w="21600" h="21600">
                <a:moveTo>
                  <a:pt x="59" y="11932"/>
                </a:moveTo>
                <a:arcTo wR="10800" hR="10800" stAng="10439138" swAng="11496971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578560" y="3211560"/>
            <a:ext cx="759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825720" y="222084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5273640" y="1634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rot="10800000">
            <a:off x="1920960" y="3945960"/>
            <a:ext cx="532800" cy="549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4" y="11526"/>
                </a:moveTo>
                <a:arcTo wR="10800" hR="10800" stAng="10568631" swAng="11217090"/>
                <a:lnTo>
                  <a:pt x="10800" y="10800"/>
                </a:lnTo>
                <a:close/>
              </a:path>
              <a:path fill="none" w="21600" h="21600">
                <a:moveTo>
                  <a:pt x="24" y="11526"/>
                </a:moveTo>
                <a:arcTo wR="10800" hR="10800" stAng="10568631" swAng="11217090"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3902400" y="3793320"/>
            <a:ext cx="533160" cy="550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4" y="11526"/>
                </a:moveTo>
                <a:arcTo wR="10800" hR="10800" stAng="10568631" swAng="11217090"/>
                <a:lnTo>
                  <a:pt x="10800" y="10800"/>
                </a:lnTo>
                <a:close/>
              </a:path>
              <a:path fill="none" w="21600" h="21600">
                <a:moveTo>
                  <a:pt x="24" y="11526"/>
                </a:moveTo>
                <a:arcTo wR="10800" hR="10800" stAng="10568631" swAng="11217090"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10800000">
            <a:off x="2149560" y="592920"/>
            <a:ext cx="532800" cy="550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4" y="11526"/>
                </a:moveTo>
                <a:arcTo wR="10800" hR="10800" stAng="10568631" swAng="11217090"/>
                <a:lnTo>
                  <a:pt x="10800" y="10800"/>
                </a:lnTo>
                <a:close/>
              </a:path>
              <a:path fill="none" w="21600" h="21600">
                <a:moveTo>
                  <a:pt x="24" y="11526"/>
                </a:moveTo>
                <a:arcTo wR="10800" hR="10800" stAng="10568631" swAng="11217090"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2682720" y="7729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1920960" y="42019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4435560" y="404964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673440" y="389736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DP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206960" y="389736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DP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692360" y="404964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DP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225520" y="404964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DP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045040" y="1116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DP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959440" y="1116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DP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530440" y="62064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920960" y="62064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cy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rot="16200000">
            <a:off x="3605400" y="2288880"/>
            <a:ext cx="533160" cy="550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4" y="11526"/>
                </a:moveTo>
                <a:arcTo wR="10800" hR="10800" stAng="10568631" swAng="11217090"/>
                <a:lnTo>
                  <a:pt x="10800" y="10800"/>
                </a:lnTo>
                <a:close/>
              </a:path>
              <a:path fill="none" w="21600" h="21600">
                <a:moveTo>
                  <a:pt x="24" y="11526"/>
                </a:moveTo>
                <a:arcTo wR="10800" hR="10800" stAng="10568631" swAng="11217090"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16200000">
            <a:off x="3534840" y="2206800"/>
            <a:ext cx="685440" cy="713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4" y="11526"/>
                </a:moveTo>
                <a:arcTo wR="10800" hR="10800" stAng="10568631" swAng="11217090"/>
                <a:lnTo>
                  <a:pt x="10800" y="10800"/>
                </a:lnTo>
                <a:close/>
              </a:path>
              <a:path fill="none" w="21600" h="21600">
                <a:moveTo>
                  <a:pt x="24" y="11526"/>
                </a:moveTo>
                <a:arcTo wR="10800" hR="10800" stAng="10568631" swAng="11217090"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825720" y="283068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02040" y="214488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902040" y="275436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349960" y="351648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GA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273640" y="191628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AT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959440" y="176364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AT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845320" y="450684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5400000">
            <a:off x="4427280" y="1908000"/>
            <a:ext cx="532800" cy="549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4" y="11526"/>
                </a:moveTo>
                <a:arcTo wR="10800" hR="10800" stAng="10568631" swAng="11217090"/>
                <a:lnTo>
                  <a:pt x="10800" y="10800"/>
                </a:lnTo>
                <a:close/>
              </a:path>
              <a:path fill="none" w="21600" h="21600">
                <a:moveTo>
                  <a:pt x="24" y="11526"/>
                </a:moveTo>
                <a:arcTo wR="10800" hR="10800" stAng="10568631" swAng="11217090"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359240" y="177804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359240" y="231156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D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663800" y="244944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521160" y="3592440"/>
            <a:ext cx="685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292560" y="3592440"/>
            <a:ext cx="380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835360" y="1992240"/>
            <a:ext cx="380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2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063960" y="1992240"/>
            <a:ext cx="380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539720" y="4278240"/>
            <a:ext cx="685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539720" y="1154160"/>
            <a:ext cx="685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49960" y="620640"/>
            <a:ext cx="685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340320" y="4308480"/>
            <a:ext cx="685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282920" y="4202280"/>
            <a:ext cx="685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587840" y="1306440"/>
            <a:ext cx="685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892760" y="1306440"/>
            <a:ext cx="685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121360" y="1154160"/>
            <a:ext cx="685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264360" y="1687680"/>
            <a:ext cx="685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721560" y="1763640"/>
            <a:ext cx="685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578560" y="2906640"/>
            <a:ext cx="685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rot="5400000">
            <a:off x="4416120" y="1527840"/>
            <a:ext cx="536040" cy="550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4" y="11526"/>
                </a:moveTo>
                <a:arcTo wR="10800" hR="10800" stAng="10568631" swAng="5470218"/>
                <a:lnTo>
                  <a:pt x="10800" y="10800"/>
                </a:lnTo>
                <a:close/>
              </a:path>
              <a:path fill="none" w="21600" h="21600">
                <a:moveTo>
                  <a:pt x="24" y="11526"/>
                </a:moveTo>
                <a:arcTo wR="10800" hR="10800" stAng="10568631" swAng="5470218"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130640" y="145908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COO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902040" y="406404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MTHF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920960" y="420228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MTHF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225520" y="92556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M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502240" y="39204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HF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97120" y="244944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HM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587840" y="206856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645240" y="161136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1897200" y="5288040"/>
          <a:ext cx="3247920" cy="142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97200" y="5288040"/>
                    <a:ext cx="3247920" cy="14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"/>
          <p:cNvSpPr/>
          <p:nvPr/>
        </p:nvSpPr>
        <p:spPr>
          <a:xfrm>
            <a:off x="1221120" y="1238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374840" y="4780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298520" y="166680"/>
            <a:ext cx="654516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038240" y="47520"/>
            <a:ext cx="6799320" cy="675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038240" y="44280"/>
            <a:ext cx="6684840" cy="667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298520" y="166680"/>
            <a:ext cx="654516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298520" y="166680"/>
            <a:ext cx="654516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808200" y="47520"/>
            <a:ext cx="7219800" cy="678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298520" y="166680"/>
            <a:ext cx="654516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0T04:39:28Z</dcterms:created>
  <dc:creator>Tomas Radivoyevitch</dc:creator>
  <dc:description/>
  <dc:language>en-US</dc:language>
  <cp:lastModifiedBy>Tomas Radivoyevitch</cp:lastModifiedBy>
  <dcterms:modified xsi:type="dcterms:W3CDTF">2005-05-26T20:05:09Z</dcterms:modified>
  <cp:revision>12</cp:revision>
  <dc:subject/>
  <dc:title>Slide 1</dc:title>
</cp:coreProperties>
</file>